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42E6-432E-4716-AE8F-57AF2FE27480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7E9C-7E80-434A-91D2-0663FE908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93D-3656-4DF7-94CB-0ABBB227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BC1-E892-4711-84F9-F17A6D2E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B2E-A773-43E0-AFA1-47B17040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10A-B7FD-4E2B-85E2-5300D50D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7CF3-8B60-4F9B-A7FB-92E0C77B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47E6-8CA8-45F3-B6F2-A227A48D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4A3D-9652-47A6-82B3-BDA32E74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C254-174C-472C-B279-8849FF96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1ACE-61FF-453A-B637-208F673A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25F0-5F63-4C08-A7E4-6D46C13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8CFA-D7B8-4DA2-A895-FE7A65A2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233-19F4-4348-B70C-0A18BD8F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21CF-5063-4180-9253-D9AC9448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2E0A-BE4D-45E2-8DDB-000F3B96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1738-C0F6-48B5-86FC-98762433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1F85-B2E4-4428-93A0-1203F266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CD0A-9A69-4395-8772-CEDEE16C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A0CC-E5A5-4DA9-9757-B10A9DB2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1CAD-470E-46AC-BFAE-BBD0630D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1AA0-6427-47D4-A4C1-F25F094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2AFB-1310-40FD-9FDD-FD1F5487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71A94-7125-4BCA-B94B-DB98DA50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7A2-1220-4A06-BF3F-4616107F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AC1A-D409-48C8-AF99-1EE0A763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2358-41CF-4644-BA43-BC9E472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AD644-33C1-411E-8E1F-3AFECEA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8E51-44E8-45A2-80CC-90BE184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AC37-11AF-4F47-8959-B4ED6352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B643-2238-40C2-BA1D-656A982E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AB17-6265-4FEE-AB92-9E6A7970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D23-F718-4CC5-BFCD-1D565C3D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3A8-5EAA-4EC0-AE90-A5D77AEC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310-3CEC-4CC4-94A9-858F0E7F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5B0-933E-4BF3-91EB-E069021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59C-BAF7-47C9-A664-612F16E0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07C-7F56-4408-98DF-B3E80C73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9759-3E0F-42F2-B6D1-6EAF22A9FB5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594B-D9D4-4A0D-A2C2-3231867D9EF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bg object 16"/>
          <p:cNvSpPr/>
          <p:nvPr/>
        </p:nvSpPr>
        <p:spPr>
          <a:xfrm>
            <a:off x="0" y="0"/>
            <a:ext cx="1336680" cy="6858000"/>
          </a:xfrm>
          <a:custGeom>
            <a:avLst/>
            <a:gdLst/>
            <a:ahLst/>
            <a:rect l="l" t="t" r="r" b="b"/>
            <a:pathLst>
              <a:path w="2005964" h="10287000">
                <a:moveTo>
                  <a:pt x="1703217" y="10286582"/>
                </a:moveTo>
                <a:lnTo>
                  <a:pt x="0" y="10286582"/>
                </a:lnTo>
                <a:lnTo>
                  <a:pt x="0" y="0"/>
                </a:lnTo>
                <a:lnTo>
                  <a:pt x="1636870" y="0"/>
                </a:lnTo>
                <a:lnTo>
                  <a:pt x="1683022" y="2876"/>
                </a:lnTo>
                <a:lnTo>
                  <a:pt x="1727490" y="11271"/>
                </a:lnTo>
                <a:lnTo>
                  <a:pt x="1769923" y="24838"/>
                </a:lnTo>
                <a:lnTo>
                  <a:pt x="1809973" y="43226"/>
                </a:lnTo>
                <a:lnTo>
                  <a:pt x="1847291" y="66087"/>
                </a:lnTo>
                <a:lnTo>
                  <a:pt x="1881526" y="93073"/>
                </a:lnTo>
                <a:lnTo>
                  <a:pt x="1912329" y="123834"/>
                </a:lnTo>
                <a:lnTo>
                  <a:pt x="1939352" y="158022"/>
                </a:lnTo>
                <a:lnTo>
                  <a:pt x="1962245" y="195288"/>
                </a:lnTo>
                <a:lnTo>
                  <a:pt x="1980659" y="235283"/>
                </a:lnTo>
                <a:lnTo>
                  <a:pt x="1994244" y="277658"/>
                </a:lnTo>
                <a:lnTo>
                  <a:pt x="2002652" y="322064"/>
                </a:lnTo>
                <a:lnTo>
                  <a:pt x="2005532" y="368153"/>
                </a:lnTo>
                <a:lnTo>
                  <a:pt x="2005532" y="9925118"/>
                </a:lnTo>
                <a:lnTo>
                  <a:pt x="2002652" y="9971207"/>
                </a:lnTo>
                <a:lnTo>
                  <a:pt x="1994244" y="10015613"/>
                </a:lnTo>
                <a:lnTo>
                  <a:pt x="1980659" y="10057988"/>
                </a:lnTo>
                <a:lnTo>
                  <a:pt x="1962245" y="10097983"/>
                </a:lnTo>
                <a:lnTo>
                  <a:pt x="1939352" y="10135248"/>
                </a:lnTo>
                <a:lnTo>
                  <a:pt x="1912329" y="10169436"/>
                </a:lnTo>
                <a:lnTo>
                  <a:pt x="1881526" y="10200197"/>
                </a:lnTo>
                <a:lnTo>
                  <a:pt x="1847291" y="10227183"/>
                </a:lnTo>
                <a:lnTo>
                  <a:pt x="1809973" y="10250045"/>
                </a:lnTo>
                <a:lnTo>
                  <a:pt x="1769923" y="10268433"/>
                </a:lnTo>
                <a:lnTo>
                  <a:pt x="1727490" y="10281999"/>
                </a:lnTo>
                <a:lnTo>
                  <a:pt x="1703217" y="10286582"/>
                </a:lnTo>
                <a:close/>
              </a:path>
            </a:pathLst>
          </a:custGeom>
          <a:solidFill>
            <a:srgbClr val="3c5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g object 17" descr=""/>
          <p:cNvPicPr/>
          <p:nvPr/>
        </p:nvPicPr>
        <p:blipFill>
          <a:blip r:embed="rId3"/>
          <a:stretch/>
        </p:blipFill>
        <p:spPr>
          <a:xfrm>
            <a:off x="10645920" y="6183360"/>
            <a:ext cx="1199880" cy="509400"/>
          </a:xfrm>
          <a:prstGeom prst="rect">
            <a:avLst/>
          </a:prstGeom>
          <a:ln w="0">
            <a:noFill/>
          </a:ln>
        </p:spPr>
      </p:pic>
      <p:pic>
        <p:nvPicPr>
          <p:cNvPr id="84" name="bg object 18" descr=""/>
          <p:cNvPicPr/>
          <p:nvPr/>
        </p:nvPicPr>
        <p:blipFill>
          <a:blip r:embed="rId4"/>
          <a:stretch/>
        </p:blipFill>
        <p:spPr>
          <a:xfrm>
            <a:off x="1527120" y="6105600"/>
            <a:ext cx="2230560" cy="571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FD43-A0BA-4538-A064-34DD3E4E5E8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hyperlink" Target="https://www.youtube.com/watch?v=QOMT61f_Rfs&amp;t=416s&amp;ab_channel=SeventheComunicaci&#243;nyAccesibilidad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Debate online abierto sobre el estigma y la discriminación de la enfermedad  mental - Información sobre la salud y noticias de salud"/>
          <p:cNvPicPr/>
          <p:nvPr/>
        </p:nvPicPr>
        <p:blipFill>
          <a:blip r:embed="rId1"/>
          <a:stretch/>
        </p:blipFill>
        <p:spPr>
          <a:xfrm>
            <a:off x="7000920" y="1693800"/>
            <a:ext cx="4182840" cy="2895840"/>
          </a:xfrm>
          <a:prstGeom prst="rect">
            <a:avLst/>
          </a:prstGeom>
          <a:ln w="0">
            <a:noFill/>
          </a:ln>
        </p:spPr>
      </p:pic>
      <p:pic>
        <p:nvPicPr>
          <p:cNvPr id="134" name="CuadroTexto 3" descr=""/>
          <p:cNvPicPr/>
          <p:nvPr/>
        </p:nvPicPr>
        <p:blipFill>
          <a:blip r:embed="rId2"/>
          <a:stretch/>
        </p:blipFill>
        <p:spPr>
          <a:xfrm>
            <a:off x="109440" y="1957320"/>
            <a:ext cx="608976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ángulo redondeado 3"/>
          <p:cNvSpPr/>
          <p:nvPr/>
        </p:nvSpPr>
        <p:spPr>
          <a:xfrm>
            <a:off x="1949400" y="1027080"/>
            <a:ext cx="2462400" cy="111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"/>
              </a:rPr>
              <a:t>Seguimientos al tratamiento – Aten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ángulo redondeado 4"/>
          <p:cNvSpPr/>
          <p:nvPr/>
        </p:nvSpPr>
        <p:spPr>
          <a:xfrm>
            <a:off x="8889840" y="4435560"/>
            <a:ext cx="2462400" cy="11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"/>
              </a:rPr>
              <a:t>Comunicación asert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ángulo redondeado 5"/>
          <p:cNvSpPr/>
          <p:nvPr/>
        </p:nvSpPr>
        <p:spPr>
          <a:xfrm>
            <a:off x="1949400" y="4444920"/>
            <a:ext cx="2462400" cy="111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"/>
              </a:rPr>
              <a:t>Calidad en la atención y el trato por el usua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ángulo redondeado 6"/>
          <p:cNvSpPr/>
          <p:nvPr/>
        </p:nvSpPr>
        <p:spPr>
          <a:xfrm>
            <a:off x="8686800" y="1027080"/>
            <a:ext cx="2462040" cy="111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"/>
              </a:rPr>
              <a:t>Apoyo científico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Aprueban legislación para garantizar atención en casos de salud mental y  adicción a sustancias - dPrimera Mano Magazine (Sacramento)"/>
          <p:cNvPicPr/>
          <p:nvPr/>
        </p:nvPicPr>
        <p:blipFill>
          <a:blip r:embed="rId1"/>
          <a:stretch/>
        </p:blipFill>
        <p:spPr>
          <a:xfrm>
            <a:off x="5087880" y="2313000"/>
            <a:ext cx="3125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4" descr=""/>
          <p:cNvPicPr/>
          <p:nvPr/>
        </p:nvPicPr>
        <p:blipFill>
          <a:blip r:embed="rId1"/>
          <a:stretch/>
        </p:blipFill>
        <p:spPr>
          <a:xfrm>
            <a:off x="2085840" y="1514520"/>
            <a:ext cx="8094960" cy="4565520"/>
          </a:xfrm>
          <a:prstGeom prst="rect">
            <a:avLst/>
          </a:prstGeom>
          <a:ln w="0">
            <a:noFill/>
          </a:ln>
        </p:spPr>
      </p:pic>
      <p:pic>
        <p:nvPicPr>
          <p:cNvPr id="170" name="Rectángulo 1" descr=""/>
          <p:cNvPicPr/>
          <p:nvPr/>
        </p:nvPicPr>
        <p:blipFill>
          <a:blip r:embed="rId2"/>
          <a:stretch/>
        </p:blipFill>
        <p:spPr>
          <a:xfrm>
            <a:off x="2944800" y="255600"/>
            <a:ext cx="5870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Estigma de salud mental"/>
          <p:cNvPicPr/>
          <p:nvPr/>
        </p:nvPicPr>
        <p:blipFill>
          <a:blip r:embed="rId1"/>
          <a:stretch/>
        </p:blipFill>
        <p:spPr>
          <a:xfrm>
            <a:off x="541440" y="209520"/>
            <a:ext cx="10663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n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uadroTexto 2"/>
          <p:cNvSpPr/>
          <p:nvPr/>
        </p:nvSpPr>
        <p:spPr>
          <a:xfrm>
            <a:off x="561960" y="2498760"/>
            <a:ext cx="5194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Fortalecer el conocimiento sobre los problemas de salud mental, contribuyendo la disminución de estigma que se tienen sobre el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Resultado de imagen de ESTIGMA EN SALUD MENTAL"/>
          <p:cNvPicPr/>
          <p:nvPr/>
        </p:nvPicPr>
        <p:blipFill>
          <a:blip r:embed="rId1"/>
          <a:stretch/>
        </p:blipFill>
        <p:spPr>
          <a:xfrm>
            <a:off x="6467400" y="3016080"/>
            <a:ext cx="4832280" cy="2590920"/>
          </a:xfrm>
          <a:prstGeom prst="rect">
            <a:avLst/>
          </a:prstGeom>
          <a:ln w="0">
            <a:noFill/>
          </a:ln>
        </p:spPr>
      </p:pic>
      <p:pic>
        <p:nvPicPr>
          <p:cNvPr id="138" name="Rectángulo 1" descr=""/>
          <p:cNvPicPr/>
          <p:nvPr/>
        </p:nvPicPr>
        <p:blipFill>
          <a:blip r:embed="rId2"/>
          <a:stretch/>
        </p:blipFill>
        <p:spPr>
          <a:xfrm>
            <a:off x="669960" y="712800"/>
            <a:ext cx="31464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n 2" descr=""/>
          <p:cNvPicPr/>
          <p:nvPr/>
        </p:nvPicPr>
        <p:blipFill>
          <a:blip r:embed="rId2"/>
          <a:stretch/>
        </p:blipFill>
        <p:spPr>
          <a:xfrm>
            <a:off x="0" y="58680"/>
            <a:ext cx="12192120" cy="6740640"/>
          </a:xfrm>
          <a:prstGeom prst="rect">
            <a:avLst/>
          </a:prstGeom>
          <a:ln w="0">
            <a:noFill/>
          </a:ln>
        </p:spPr>
      </p:pic>
      <p:sp>
        <p:nvSpPr>
          <p:cNvPr id="140" name="CuadroTexto 4"/>
          <p:cNvSpPr/>
          <p:nvPr/>
        </p:nvSpPr>
        <p:spPr>
          <a:xfrm>
            <a:off x="388800" y="4973760"/>
            <a:ext cx="61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O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3"/>
              </a:rPr>
              <a:t>https://www.youtube.com/watch?v=QOMT61f_Rfs&amp;t=416s&amp;ab_channel=SeventheComunicaci%C3%B3nyAccesibilidad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O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sde el minuto 4’35”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uadroTexto 2"/>
          <p:cNvSpPr/>
          <p:nvPr/>
        </p:nvSpPr>
        <p:spPr>
          <a:xfrm>
            <a:off x="563400" y="23184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030a0"/>
                </a:solidFill>
                <a:latin typeface="Century"/>
                <a:ea typeface="Arial"/>
              </a:rPr>
              <a:t>Es importa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l sufrimiento es el origen de muchos trastornos mentales - Diario Judío  México"/>
          <p:cNvPicPr/>
          <p:nvPr/>
        </p:nvPicPr>
        <p:blipFill>
          <a:blip r:embed="rId1"/>
          <a:stretch/>
        </p:blipFill>
        <p:spPr>
          <a:xfrm>
            <a:off x="6656400" y="1341360"/>
            <a:ext cx="4979880" cy="3581640"/>
          </a:xfrm>
          <a:prstGeom prst="rect">
            <a:avLst/>
          </a:prstGeom>
          <a:ln w="0">
            <a:noFill/>
          </a:ln>
        </p:spPr>
      </p:pic>
      <p:sp>
        <p:nvSpPr>
          <p:cNvPr id="143" name="Rectángulo 4"/>
          <p:cNvSpPr/>
          <p:nvPr/>
        </p:nvSpPr>
        <p:spPr>
          <a:xfrm>
            <a:off x="449280" y="1050840"/>
            <a:ext cx="5191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22222"/>
                </a:solidFill>
                <a:latin typeface="Times New Roman"/>
                <a:ea typeface="Calibri"/>
              </a:rPr>
              <a:t>“</a:t>
            </a:r>
            <a:r>
              <a:rPr b="0" lang="es-MX" sz="2800" spc="-1" strike="noStrike">
                <a:solidFill>
                  <a:srgbClr val="222222"/>
                </a:solidFill>
                <a:latin typeface="Century"/>
                <a:ea typeface="Calibri"/>
              </a:rPr>
              <a:t>Cualquier persona puede presentar un trastorno, problema o evento de salud mental en algún momento de su vida; esto dependerá de la forma como interactúen sus particularidades genéticas, congénitas, biológicas, psicológicas, familiares, sociales y los acontecimientos de su historia de vid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ángulo 4"/>
          <p:cNvSpPr/>
          <p:nvPr/>
        </p:nvSpPr>
        <p:spPr>
          <a:xfrm>
            <a:off x="4505400" y="3305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ángulo 5"/>
          <p:cNvSpPr/>
          <p:nvPr/>
        </p:nvSpPr>
        <p:spPr>
          <a:xfrm>
            <a:off x="504720" y="1359000"/>
            <a:ext cx="706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MITO</a:t>
            </a:r>
            <a:r>
              <a:rPr b="0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  <a:ea typeface="Calibri"/>
              </a:rPr>
              <a:t>Los trastornos mentales no me pueden afec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REALIDAD: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  <a:ea typeface="Calibri"/>
              </a:rPr>
              <a:t>En realidad son muy comunes y se pueden desarrollar a raíz de situaciones trascendent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ángulo 6"/>
          <p:cNvSpPr/>
          <p:nvPr/>
        </p:nvSpPr>
        <p:spPr>
          <a:xfrm>
            <a:off x="3371760" y="2871720"/>
            <a:ext cx="7678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MITO</a:t>
            </a:r>
            <a:r>
              <a:rPr b="0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  <a:ea typeface="Calibri"/>
              </a:rPr>
              <a:t>Los niños no experimentan problemas de salud m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REALIDAD: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  <a:ea typeface="Calibri"/>
              </a:rPr>
              <a:t>Los niños pequeños pueden iniciar con la presencia de signos de alerta temprana de problemas de salud 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ángulo 7"/>
          <p:cNvSpPr/>
          <p:nvPr/>
        </p:nvSpPr>
        <p:spPr>
          <a:xfrm>
            <a:off x="1873080" y="4881600"/>
            <a:ext cx="8288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MITO</a:t>
            </a:r>
            <a:r>
              <a:rPr b="0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  <a:ea typeface="Calibri"/>
              </a:rPr>
              <a:t>Los trastornos mentales no pueden afectar a mi famil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entury"/>
                <a:ea typeface="Calibri"/>
              </a:rPr>
              <a:t>REALIDAD: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  <a:ea typeface="Calibri"/>
              </a:rPr>
              <a:t>Sin darnos cuenta, nuestros familiares puede presentar sintomatología en algún momento de su vid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Mitos y realidades sobre las inversiones - WORTEV CAPITAL"/>
          <p:cNvPicPr/>
          <p:nvPr/>
        </p:nvPicPr>
        <p:blipFill>
          <a:blip r:embed="rId1"/>
          <a:stretch/>
        </p:blipFill>
        <p:spPr>
          <a:xfrm>
            <a:off x="374760" y="2693880"/>
            <a:ext cx="2997000" cy="1868760"/>
          </a:xfrm>
          <a:prstGeom prst="rect">
            <a:avLst/>
          </a:prstGeom>
          <a:ln w="0">
            <a:noFill/>
          </a:ln>
        </p:spPr>
      </p:pic>
      <p:pic>
        <p:nvPicPr>
          <p:cNvPr id="149" name="Rectángulo 2" descr=""/>
          <p:cNvPicPr/>
          <p:nvPr/>
        </p:nvPicPr>
        <p:blipFill>
          <a:blip r:embed="rId2"/>
          <a:stretch/>
        </p:blipFill>
        <p:spPr>
          <a:xfrm>
            <a:off x="1371600" y="-6480"/>
            <a:ext cx="78757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ángulo 2"/>
          <p:cNvSpPr/>
          <p:nvPr/>
        </p:nvSpPr>
        <p:spPr>
          <a:xfrm>
            <a:off x="608040" y="2035080"/>
            <a:ext cx="1057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"/>
                <a:ea typeface="Calibri"/>
              </a:rPr>
              <a:t>La mitad de todos los trastornos de salud mental muestran los primeros signos antes que una persona cumpla 14 años, y tres cuartas partes de los trastornos de salud mental comienzan antes de los 2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"/>
                <a:ea typeface="Calibri"/>
              </a:rPr>
              <a:t>Desafortunadamente, menos del 20% de los niños y adolescentes con problemas de salud mental diagnosticables reciben el tratamiento que necesitan. El acompañamiento temprano a la salud mental puede ayudar a un niño antes de que los problemas interfieran con otras necesidades de desarrollo</a:t>
            </a:r>
            <a:r>
              <a:rPr b="0" lang="es-MX" sz="2400" spc="-1" strike="noStrike">
                <a:solidFill>
                  <a:srgbClr val="222222"/>
                </a:solidFill>
                <a:latin typeface="Century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Rectángulo 4" descr=""/>
          <p:cNvPicPr/>
          <p:nvPr/>
        </p:nvPicPr>
        <p:blipFill>
          <a:blip r:embed="rId1"/>
          <a:stretch/>
        </p:blipFill>
        <p:spPr>
          <a:xfrm>
            <a:off x="2206800" y="712800"/>
            <a:ext cx="788184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ángulo 4"/>
          <p:cNvSpPr/>
          <p:nvPr/>
        </p:nvSpPr>
        <p:spPr>
          <a:xfrm>
            <a:off x="4505400" y="3305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ángulo 5"/>
          <p:cNvSpPr/>
          <p:nvPr/>
        </p:nvSpPr>
        <p:spPr>
          <a:xfrm>
            <a:off x="3065400" y="4794120"/>
            <a:ext cx="776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Century"/>
                <a:ea typeface="Calibri"/>
              </a:rPr>
              <a:t>La falta de acceso a terapias eficaces y el internamiento de esas personas en centros psiquiátricos aislados, dan pábulo a ese tipo de preju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Texto 6"/>
          <p:cNvSpPr/>
          <p:nvPr/>
        </p:nvSpPr>
        <p:spPr>
          <a:xfrm>
            <a:off x="638280" y="2065320"/>
            <a:ext cx="482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30a0"/>
                </a:solidFill>
                <a:latin typeface="Century"/>
              </a:rPr>
              <a:t>Aisl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30a0"/>
                </a:solidFill>
                <a:latin typeface="Century"/>
              </a:rPr>
              <a:t>Guardar silen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30a0"/>
                </a:solidFill>
                <a:latin typeface="Century"/>
              </a:rPr>
              <a:t>Rechazo continu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30a0"/>
                </a:solidFill>
                <a:latin typeface="Century"/>
              </a:rPr>
              <a:t>Comentarios denig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30a0"/>
                </a:solidFill>
                <a:latin typeface="Century"/>
              </a:rPr>
              <a:t>Trato vio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30a0"/>
                </a:solidFill>
                <a:latin typeface="Century"/>
              </a:rPr>
              <a:t>Discri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ctángulo 7" descr=""/>
          <p:cNvPicPr/>
          <p:nvPr/>
        </p:nvPicPr>
        <p:blipFill>
          <a:blip r:embed="rId1"/>
          <a:stretch/>
        </p:blipFill>
        <p:spPr>
          <a:xfrm>
            <a:off x="2335320" y="433440"/>
            <a:ext cx="6454800" cy="1517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ondiciones de aislamiento por Covid de solo 10 días"/>
          <p:cNvPicPr/>
          <p:nvPr/>
        </p:nvPicPr>
        <p:blipFill>
          <a:blip r:embed="rId2"/>
          <a:stretch/>
        </p:blipFill>
        <p:spPr>
          <a:xfrm>
            <a:off x="7467480" y="1981080"/>
            <a:ext cx="3505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ángulo redondeado 2"/>
          <p:cNvSpPr/>
          <p:nvPr/>
        </p:nvSpPr>
        <p:spPr>
          <a:xfrm>
            <a:off x="1066680" y="1654200"/>
            <a:ext cx="2462400" cy="15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"/>
              </a:rPr>
              <a:t>Tratamiento en atención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ángulo redondeado 5"/>
          <p:cNvSpPr/>
          <p:nvPr/>
        </p:nvSpPr>
        <p:spPr>
          <a:xfrm>
            <a:off x="1058760" y="3673440"/>
            <a:ext cx="2462400" cy="187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"/>
              </a:rPr>
              <a:t>Psicoeducaciòn a familia, amigos cercanos y comunidades</a:t>
            </a:r>
            <a:r>
              <a:rPr b="0" lang="es-ES" sz="1800" spc="-1" strike="noStrike">
                <a:solidFill>
                  <a:srgbClr val="000000"/>
                </a:solidFill>
                <a:latin typeface="Century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ángulo redondeado 6"/>
          <p:cNvSpPr/>
          <p:nvPr/>
        </p:nvSpPr>
        <p:spPr>
          <a:xfrm>
            <a:off x="4890960" y="3660840"/>
            <a:ext cx="2462400" cy="186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"/>
              </a:rPr>
              <a:t>Establecer políticas y programas para su promoción y prevención – Importancia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ángulo redondeado 7"/>
          <p:cNvSpPr/>
          <p:nvPr/>
        </p:nvSpPr>
        <p:spPr>
          <a:xfrm>
            <a:off x="8580600" y="3711600"/>
            <a:ext cx="2462040" cy="176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"/>
              </a:rPr>
              <a:t>Gestiones con otras entidades</a:t>
            </a:r>
            <a:r>
              <a:rPr b="1" lang="es-ES" sz="18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ángulo redondeado 8"/>
          <p:cNvSpPr/>
          <p:nvPr/>
        </p:nvSpPr>
        <p:spPr>
          <a:xfrm>
            <a:off x="4890960" y="1654200"/>
            <a:ext cx="2462400" cy="15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"/>
              </a:rPr>
              <a:t>Asegurar la disponibilidad de medicamentos psicotró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ángulo redondeado 9"/>
          <p:cNvSpPr/>
          <p:nvPr/>
        </p:nvSpPr>
        <p:spPr>
          <a:xfrm>
            <a:off x="8396280" y="1644480"/>
            <a:ext cx="2463840" cy="157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"/>
              </a:rPr>
              <a:t>Prestar asistencia en la 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Rectángulo 3" descr=""/>
          <p:cNvPicPr/>
          <p:nvPr/>
        </p:nvPicPr>
        <p:blipFill>
          <a:blip r:embed="rId1"/>
          <a:stretch/>
        </p:blipFill>
        <p:spPr>
          <a:xfrm>
            <a:off x="1487520" y="208080"/>
            <a:ext cx="926604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8T12:45:40Z</dcterms:created>
  <dc:creator>Yataro D1</dc:creator>
  <dc:description/>
  <dc:language>en-US</dc:language>
  <cp:lastModifiedBy>andrea becerra parra</cp:lastModifiedBy>
  <dcterms:modified xsi:type="dcterms:W3CDTF">2022-03-01T16:08:20Z</dcterms:modified>
  <cp:revision>290</cp:revision>
  <dc:subject/>
  <dc:title>Presentación de PowerPoint</dc:title>
</cp:coreProperties>
</file>